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A3017-D249-40F0-85ED-27C523732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D463-D2D2-490A-9839-4934580C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4D2E3-A65A-49BC-BBD8-506DC20CD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B4B021-0B96-4A86-B293-C313C5467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EF8488-2C03-40F2-946D-C6B3BDDC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153E5D-814C-4E81-94C6-07341D7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433495-9520-46E8-A232-5F68BEF0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A9FB10-74A9-49BF-9A96-B651EB27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35CA68-6921-4731-AF06-F01B2332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8383A9-9A6E-492D-8BDE-54D868F48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3E663-3F3A-409C-B760-C40BC28A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64D94-F4C9-4851-BBCD-199492B6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F94D-86BC-4489-885B-66FB42EB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75283-6BB0-43EF-A350-5C3AA553A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5C5CB-5FE8-4D4A-8430-33F22185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1E9B7-A855-497E-91FC-41044701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7CA02-95C4-451C-98DA-40A8C217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0D4C5A-AF08-43F1-BD01-8E4F0927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DE39D9-C47B-49D0-8BFA-11190C3F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9188EA-5B99-461A-BA2B-98AE2446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0805E4-33F3-461A-9C65-C1CD0C34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09F50-7349-47B9-9351-C87AEE08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49A77-15BC-4207-87C3-6032BD56C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1001-518E-48AE-A8FA-62688751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DDEC5F-8D34-4147-8961-B040243A0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A44C91-A01A-4298-AF56-3A7AC5E75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4D6901-6D46-4D5D-9F79-E22A17EF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8DAA1C-68DD-4F9F-B89E-3ECF50F3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C68D66-3342-4971-A0D1-B236467E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2ABCC-5802-46DD-B809-3F92CDD9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1CC44-D99E-48E3-85D1-55C88BAA8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6A038-E5FD-49F9-8A9B-82FD7C8A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E0049-101C-48CF-BCCF-E6A31745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BD694D-99AC-4106-A229-84E490984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AF9A6-7755-4D20-B89C-BE7A1A443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132ED8-04F1-48E5-A96A-51D1660B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36275B-27F5-4AF2-B68D-8C07DFC5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1B4D10-7B0E-48B7-BFA6-AB354B8E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04F10C-192C-429A-B686-C8A787D1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420C3-A436-47A7-B093-66A20419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F1AD1-7B47-4A03-9F81-74D114CC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E21F2C-A6C4-468C-8C0E-4B9F1CD5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0FCBCC-C0EE-41A5-AE4F-E0840B53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5BD8E8-E6CF-4EB9-88D7-BF1F383E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CA4860-28B5-4ABB-8F14-51755DD5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A47F-9E39-46DB-AFDF-17813C878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99BE7-AB67-42D4-B5E1-22EF3B9E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BDEA2-7914-4B4B-AEC9-4134C630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E02192-C047-4DE3-9861-B556D3416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433CB7-8EE9-4204-8052-9F01A1152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D8E854-FA60-4DE8-B6AF-F5B20F16F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B827BE-DE11-4320-B3AC-1EC1A6866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8E5E5-89C8-4319-BC98-D4D9A3AC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CE8ED0-F8F3-4B09-9EDF-D6D2C46F1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42D34-0B72-4C6A-9772-A2E9BBE7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DCB3A-3E99-4073-B9F9-192A181C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7065F-51E8-4044-A776-2F78E18A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573BF0-826F-4194-80DF-15947B7A5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42C7DB-3D6F-4151-9578-75A0865C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648DB-DBB0-49ED-9F86-4356A8A5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4B1403-4D9C-49F1-BD2E-C34A0F009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F6BBBC-F2FF-40A4-9581-DD9F14C37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6B2CEF-D878-4B06-94A1-867E8BC2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92059-595E-471F-9101-D8C7107DE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0F916D-C54C-427D-9F86-242F043AE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4ECC1-60CC-4AFE-B52F-FCFDED6DC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AFDB61-0D28-47F9-9231-B93AD137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E1A1-4261-4F27-8B7F-256FD7E6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4A6F53-4B8D-4E6D-9110-604703A63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C3461-7568-41A1-9E9D-C8AECB60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3DBB7-2638-4C49-B9CD-8E1F1C91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8527EA-5E85-49C9-B3F8-24CD61F1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A3DF94-E26A-4B94-A122-5467F6E0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9108C-37CC-46D3-AF4F-701B86AF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C3C779-3E34-4430-9272-62364E5F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00CFC5-083F-4C50-A121-2BD49E3FD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FF03BC-D53E-4DA6-AB47-79333FFE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2C38E5-4715-4CF0-8E71-D68E9BAC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3B0F1-03EE-4F0E-9089-ED81F89D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C20E4E-97CB-487D-9872-798CD47AB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0AB397-118D-4B67-A489-9AEF42980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2AC5EA-A722-4BE3-9F4B-420CA1CE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198D55-1DD7-4174-B84B-DFB36FB7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1362B9-D67F-42D8-9759-73B9469F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222DED-A25E-45F8-8C42-95892CB31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6522F-BD98-408D-8A06-F39AB3C2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8034EA-8A2C-40C8-A5AF-1000016F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EC026F-F44F-4F5C-9D35-72F77A9AA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E21239-166A-4124-98FD-E6C748AEB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C3AF-BB0B-4A7A-B8CB-54DB06F04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174470-7E93-43B2-85E7-613451ADE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BD21C3-7BF6-4194-BB31-A03D65D0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A662C3-8381-4A67-8B0A-CA9A6B741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7ABA7-2098-4618-AC3D-576609D3B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CFF2AC-2DCA-4F93-BDC3-F96638F3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0FD8C-69D8-4B94-A33C-6EAF05BD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425B36-0B03-4CFB-A59E-09E96A96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1CE2C0-698E-4B1B-9684-3D9272BF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237A7B-F294-4506-A061-2036FB33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7DDE80-5BC4-499D-A807-6ADBB020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119B-245C-4231-A489-B497E920E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14158D-2DE1-44FE-A587-BC327586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DABA12-4679-4B70-AE8E-489E13EBF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9EE7D-FBC3-4C33-8D16-DFB3CFE5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3EECCC-1A57-4C2A-98C6-89FB12050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F238B9-63FC-4E5B-B651-3DC73695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A14434-1CEC-4AF2-B14B-D4F58B50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F1353A-273B-4529-B1F3-4EFBB182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4B2A85-DE70-431E-8E3F-C42EB923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132D89-CFC5-42FF-8CE9-E3A9528F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3A0390-69E2-400E-ACD3-B9B6E17B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76B4-2FD1-43F8-AC36-0945D137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4C22-BCCB-4ABB-8118-C7A498DE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506017-7343-480B-A68E-F7DE707B2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6C7640-ED39-4B83-8E43-13F47355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933994-6C6A-4F38-9500-B1C54A18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4A6353-4B69-4ECE-B894-7744B84B3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85DEB5-09DA-495F-8189-0F937A30C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E0CCD0-8AEE-4E56-BE4B-62FEC5873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E5DACD-8732-4724-B68C-4EAFCA54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0E1DC3-892E-4D2B-8EE5-38C8B67FF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057A800-142D-4CB4-A4AA-BBCDDC19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EB8462-67A9-46B5-83B3-32683153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E02C-017B-45C2-B9C5-B634BD39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DCBF4D-97F2-4846-9F41-5A34C414F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F6E871-E7F6-4C0B-8FE9-E198BF2C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FEFB71-05B2-4CF1-A405-A0F5AF22C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69005B-F4A0-45E5-AD10-7631465F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B9B72A-EB76-49C1-8AC0-C53D2F8B9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0C8D41-DD8F-4715-B9E7-C9F85DFCF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EF181D-140C-4182-80B8-442AF165E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28062E-8F4D-4EFB-BB61-B87B0BB7C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27E8D2-CD73-45FA-8E1B-4EF3C2B7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119576-FAFF-4E55-B0A7-35C1C1433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AFBC3-39BD-49AE-89FA-C01530827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4773E2-454A-4AC7-B5C9-AFE8468B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2803E2-3B21-44D4-B300-9D780A9D0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42844-D739-4DEE-8778-1BC748A4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FC073C-4124-400D-B947-9A4C2B8F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C0D9216-AC26-44A7-A56D-7A35BEBC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5034EB-9879-48A5-9F28-F3E9290F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9C310F-5A91-487A-B7DB-71A98F15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78C780-170F-40AC-BF25-F1FAFC66A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790AA0-BC88-40B8-AC54-C6543D82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B92081-E16F-4C62-A1DD-DE2A904F5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20017-38F1-49CE-8F87-44B33D324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3A09E5-C434-48D8-8C96-1A51BDD1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F75FBD-AB89-4895-B6F7-D35F7024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4335B3-310A-4EF2-8B9A-5302807F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21A40C-213D-4CEF-8021-73B9F960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4E0241-19FC-4EA6-9575-ACF347BBF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3DEAFF-6FD4-44DD-917E-50254BA0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35FFC6-254B-4100-882D-7D150BD4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5E9C11-1024-4152-93DA-441830AD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EBA00D-7DEF-4AE4-894A-5A807FD4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6DC3E8-3191-406B-80A4-CEA663DA8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561E-8F0E-4980-AE85-B6E5D6EBF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85E13C-511E-4B8C-BA1E-DE1206A5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072A99-D470-42E1-96BC-E722AF492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A67404-8301-484E-8C5C-79826B73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3000AC-B6CB-4377-9857-0CA0F11D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CE7929-0FA4-4C52-A3DA-1928FA7F8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904C53-0CF1-41F0-AEA0-014619EA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D8F2AA5-73E1-434E-AA66-5DD0B7C6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B838C5-E9E1-4F44-96CE-C7988715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577D4D3-BB67-4B9C-A55A-B41F4A93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469BDD-6F9C-4B72-BA8E-9F9314C0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8507E-CFFD-4AC2-A469-86E02558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73CDB6-8C00-4139-8833-D5DA35DEB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C5748E-2592-4432-835B-95A6892FE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CB2181-3BBD-4F5D-8E84-DDC0D2ADF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63013-B076-4F6C-92B3-6B3F05EF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5C9F9-2B17-4173-9C7E-84B483F8A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583B-5B35-4850-8120-D5FDA6C36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64FB-F67D-4ABB-8667-79EE3163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6E6-2E49-4038-8F15-C879DE3A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2552E-F546-42E0-82EC-2D275C99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AB0D56-1AEF-4E9B-BD4F-D3495103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5B9A-8CAA-4302-99A7-73621B07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6F25A-403D-4302-BA44-AA4BF564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50D2E-EC89-4C10-BA20-D446248C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09366-DEC1-46C4-AEAF-CFB193CD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2635C-BDEB-447B-8BD7-DE58AF06D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EE8E8-7B98-40C4-9C6F-6F3AB6FCC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3DCA-A600-437D-AF01-4DA3523F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F764CD-A638-4A34-A650-163AD2A7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B148-7D42-4B7C-9979-DAA701623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B2312-7A31-43D7-B1D1-371A2B72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47F4C-6584-4B3D-AB23-4028B0CB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B8EBD-F732-4214-AA79-76B4A9C58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FD2B2-8332-456C-9FD8-9089674C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AE2D7-4DC6-47B4-8CDA-50A3F7CC8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3D28F-7D13-414B-AB12-2E4A50BE1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724FC-C608-42DE-A751-CAA9C896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B0F39-4198-43F7-8D9B-347109043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3D890-593D-4A34-BB76-90A553524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71809-155E-4A41-843F-BA6C7AB84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DE7-C6A8-4A5A-9A1C-847D3A09B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380BA8-085B-4E7A-91F4-85CC790D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F9361-D4F5-4C18-A4A6-5132CB61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77A953-B95F-4520-A663-FEEEDBB9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B5EF38-4DCA-4ECA-97BB-534462616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4CCE9-C3B0-4A71-B35C-D8676E44D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6BD9A-0530-457B-9EE3-9AA530AD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F866E5-F2AC-411C-80EB-9C66FCA9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1F97E-6468-4CE6-9013-D458D70A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83D8A3-FDCE-43B5-B3EE-5E51D727C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8FBB4-B6D5-4214-8DB0-415F1C37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2820-F229-456E-A28F-B70726EF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6457DF-08A9-48E1-86AC-C7FD7D810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A0127-C27A-46EB-94EC-ABD0410BF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61341-0E86-4B95-985F-F239B416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29106-9559-4AFF-9C38-B8FE81E9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2C4A3-91B9-47E5-96ED-1DDEC9E1A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BBC0A-A1ED-4363-8671-7682076B4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1C730-9045-4D17-A85C-8A351ADA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6FD7E-4807-437C-B1F6-24E1DE134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D522EC-6D88-4FC2-9297-009AA699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7DD62-C1B1-465A-A83E-08AE4C62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BE1A-4F87-48CE-AEDA-56087147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0D6EC6-6D05-406A-B66A-8B2FCFBAA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9A316-2155-4B8D-9467-680C4228F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DABB7-885D-43BE-8F5F-1363CE38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96DD9-D394-444E-B9F0-CD6F78E3F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DBA71-3E4F-4289-BB84-B7455D39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34957-0185-4291-950D-E996A593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67BD3-B604-427B-B2B9-45F5B37B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DA8F9-7C94-4EEE-92E5-192215C75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A03B2-3493-4998-9428-391BF572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73CD69-CDFA-468B-A4E2-5D301291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A762-8532-4C70-8FAE-BC353E1D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E2FB8-F075-4452-A0B9-5149A636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FB292-F474-46F8-A41D-4CCFF14C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6BD6D5-DDC9-4A18-B869-962FD1D0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9CEF3-A90A-4E13-88BC-7EC00052D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0DD0C-2153-4179-9664-F7E448753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48EAA-E61E-4218-81E7-027B7440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AF83D-9B66-4121-BF9A-5C48324E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7DF64-3F4F-460C-8C0A-7FAA0816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C768AE-B684-4075-8290-DAF9EB872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66517-23E3-454A-9A14-EC67CB57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054D-0A90-4CD7-9384-D78736DC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5B091-8E21-4FC8-B703-D625754C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F084FF-E564-4025-855A-60B12F63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48D01-3BF0-4D43-81F8-690915B5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2A7920-0CFD-4318-A85B-C9477907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BF1593-026D-477F-A8F7-93F97D1FF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C6827-6488-4042-AF0B-D430E39CE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B6CF3-5743-4662-8467-ABE270C1E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90BD7-B921-48E1-B7D9-04D4D7389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A622BA-6754-40B4-8E56-131D29F5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FC04E-A739-4069-A8B6-6C264480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464E-D098-4A95-85C1-372595583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E1D93-6E27-43CC-9356-AE3420E5B8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D6F7-742D-46AD-9A59-A49AB70368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BDEC-4377-480D-AAB2-444A8A554BE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19D6-A61E-462D-A1B9-F478B05F4A7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B2AFE-EDA7-44FE-BEFF-1B5C3D68D8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AEAA-D752-4589-872A-63A40AA3CF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55690-1BFE-450C-80CC-0A26C673AD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CB8E-849D-44D8-8AEA-583BA77B06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4E0F8-6B8F-407E-8119-975E8FD498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4209-D699-4A7C-845D-58329905C2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29B1-F9BE-44C2-8D30-8B2B816979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7C05-6A12-473B-8920-0CE76403142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A090F-8C15-4E15-B1F7-FACC38FA20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5B81-3D80-45C1-ACA2-9D87F283C6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AE75D-B98B-44D2-ABA2-0E9C55491C5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606A-3907-4D6F-B265-7F6ACFFBDE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986A-E5E4-40FC-A783-4835D3B973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6D6E8-C9A0-4984-9A85-010DB3FD08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B368F-1F34-4CB5-B9F8-1F72F5E99D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DEFB-0FDE-4395-B395-012778CC7E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80000-D304-4F74-A266-CC194F3B3FA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F12A4-215D-4EB3-AA20-BE8D750448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1B90-542A-4232-AB1B-AEB25C6B1F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7C046-3280-479D-803C-2F08CBA7BD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C4FDA-97B8-4451-A8CB-136118E3CF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FB6B7-5AE3-4987-A40E-9071AEE1CC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8762-27B2-45D5-AC7B-3AC17617D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5937-DDF5-4E28-83E3-9BCDD55DE5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D4B47-6132-4ABE-A8C1-91FA3135C2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2C397-5B05-4982-89C0-A34C6BFFD8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A6E3-E0D9-4A0A-AD6E-9C50F0B561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566A-4048-42E9-8D5E-57DE6C4B21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44F0-F54B-46FE-9EF2-5074845F26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A967-C273-4B77-8ACC-3DD724E3F1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24355-660F-49C7-B4D4-7BC2736E1B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D463B-0DEF-4331-946F-2023673FD0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D2B5C-CCF5-4771-8564-6F7EC60310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B303-BFD8-4A52-9146-001A87BAEE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8D4F-E679-44D9-A1A4-7EDF642E8D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806400" y="2392200"/>
            <a:ext cx="7837560" cy="109548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357280" y="3719520"/>
            <a:ext cx="442944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5" name="图片 1" descr=""/>
          <p:cNvPicPr/>
          <p:nvPr/>
        </p:nvPicPr>
        <p:blipFill>
          <a:blip r:embed="rId1"/>
          <a:stretch/>
        </p:blipFill>
        <p:spPr>
          <a:xfrm>
            <a:off x="453960" y="1001880"/>
            <a:ext cx="8237520" cy="57337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684360" y="981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755640" y="4005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0" name="图片 1" descr=""/>
          <p:cNvPicPr/>
          <p:nvPr/>
        </p:nvPicPr>
        <p:blipFill>
          <a:blip r:embed="rId1"/>
          <a:stretch/>
        </p:blipFill>
        <p:spPr>
          <a:xfrm>
            <a:off x="457200" y="2000160"/>
            <a:ext cx="8229600" cy="28576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2"/>
          <a:stretch/>
        </p:blipFill>
        <p:spPr>
          <a:xfrm>
            <a:off x="755640" y="1989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441360" y="115920"/>
            <a:ext cx="8523360" cy="62294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547640" y="10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6012000" y="105264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54764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5940360" y="1773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2" descr=""/>
          <p:cNvPicPr/>
          <p:nvPr/>
        </p:nvPicPr>
        <p:blipFill>
          <a:blip r:embed="rId1"/>
          <a:stretch/>
        </p:blipFill>
        <p:spPr>
          <a:xfrm>
            <a:off x="631800" y="260280"/>
            <a:ext cx="8332920" cy="639936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2340000" y="2421000"/>
            <a:ext cx="792000" cy="4492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3"/>
          <a:stretch/>
        </p:blipFill>
        <p:spPr>
          <a:xfrm>
            <a:off x="2484360" y="3141720"/>
            <a:ext cx="79236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4"/>
          <a:stretch/>
        </p:blipFill>
        <p:spPr>
          <a:xfrm>
            <a:off x="5292720" y="3905280"/>
            <a:ext cx="792000" cy="4492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5"/>
          <a:stretch/>
        </p:blipFill>
        <p:spPr>
          <a:xfrm>
            <a:off x="2987640" y="4638600"/>
            <a:ext cx="792360" cy="4492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6"/>
          <a:stretch/>
        </p:blipFill>
        <p:spPr>
          <a:xfrm>
            <a:off x="3419640" y="5373720"/>
            <a:ext cx="792000" cy="44928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7"/>
          <a:stretch/>
        </p:blipFill>
        <p:spPr>
          <a:xfrm>
            <a:off x="4067280" y="6121440"/>
            <a:ext cx="792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5" name="图片 1" descr=""/>
          <p:cNvPicPr/>
          <p:nvPr/>
        </p:nvPicPr>
        <p:blipFill>
          <a:blip r:embed="rId1"/>
          <a:stretch/>
        </p:blipFill>
        <p:spPr>
          <a:xfrm>
            <a:off x="81000" y="1219320"/>
            <a:ext cx="8980560" cy="441936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2"/>
          <a:stretch/>
        </p:blipFill>
        <p:spPr>
          <a:xfrm>
            <a:off x="4572000" y="2176560"/>
            <a:ext cx="1224000" cy="44928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3"/>
          <a:stretch/>
        </p:blipFill>
        <p:spPr>
          <a:xfrm>
            <a:off x="6012000" y="3645000"/>
            <a:ext cx="1296720" cy="44928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4"/>
          <a:stretch/>
        </p:blipFill>
        <p:spPr>
          <a:xfrm>
            <a:off x="4356000" y="4408560"/>
            <a:ext cx="1297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433440" y="2428920"/>
            <a:ext cx="8275680" cy="200016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7236000" y="2435400"/>
            <a:ext cx="936360" cy="4489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2411280" y="3184560"/>
            <a:ext cx="936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6" name="图片 1" descr=""/>
          <p:cNvPicPr/>
          <p:nvPr/>
        </p:nvPicPr>
        <p:blipFill>
          <a:blip r:embed="rId1"/>
          <a:stretch/>
        </p:blipFill>
        <p:spPr>
          <a:xfrm>
            <a:off x="76320" y="861840"/>
            <a:ext cx="8991360" cy="513432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3"/>
          <a:stretch/>
        </p:blipFill>
        <p:spPr>
          <a:xfrm>
            <a:off x="1116000" y="3284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4"/>
          <a:stretch/>
        </p:blipFill>
        <p:spPr>
          <a:xfrm>
            <a:off x="1116000" y="4797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5"/>
          <a:stretch/>
        </p:blipFill>
        <p:spPr>
          <a:xfrm>
            <a:off x="1187280" y="5516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485640" y="1309680"/>
            <a:ext cx="8172720" cy="423864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7" name="图片 1" descr=""/>
          <p:cNvPicPr/>
          <p:nvPr/>
        </p:nvPicPr>
        <p:blipFill>
          <a:blip r:embed="rId1"/>
          <a:stretch/>
        </p:blipFill>
        <p:spPr>
          <a:xfrm>
            <a:off x="0" y="785880"/>
            <a:ext cx="91440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0" name="图片 1" descr=""/>
          <p:cNvPicPr/>
          <p:nvPr/>
        </p:nvPicPr>
        <p:blipFill>
          <a:blip r:embed="rId1"/>
          <a:stretch/>
        </p:blipFill>
        <p:spPr>
          <a:xfrm>
            <a:off x="476280" y="995400"/>
            <a:ext cx="8191440" cy="48672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2"/>
          <a:stretch/>
        </p:blipFill>
        <p:spPr>
          <a:xfrm>
            <a:off x="826920" y="981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3"/>
          <a:stretch/>
        </p:blipFill>
        <p:spPr>
          <a:xfrm>
            <a:off x="826920" y="3933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5:13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